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7B27-E939-4BC5-9806-DDFFF2532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B1C8-0561-4A26-AC54-900DA8F0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A9F8-77CF-4E3B-811E-0DDB5B51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088C-073F-4F84-ABFF-E2F8766B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3F9F-5164-4390-A917-B7DD5326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E203-95CE-40B2-857A-7D23D419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9A9D-F763-4E10-9187-73E7C119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EE1F-FCA8-4D9A-969B-7347F9BC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205D-6671-4BE3-9790-0172F017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ED98-3114-4659-A3A6-CEAC0CE3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1C92-C884-448F-855F-6466E41B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6E7F-0770-40F8-8950-5FCA5D05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CCE9-A6A4-48E0-8D40-53600C79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F823-7AE4-47D2-BB60-B26CD7B1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375F-C635-4BD4-8C33-9A7A0FBA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4A9B-4C73-4F0C-954A-30E995F4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74E9-8953-4DBA-8EF5-A08FD2E4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4E0C-5C98-43C6-9B72-1C79FE21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458D-BBF0-4324-A464-4B075777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F286-04E0-4221-81D2-B885473A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29AD-0318-4557-BF5C-FDBFFAD1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D17E-8257-48D0-8AFA-9D643B3A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F24A-6E2D-488F-B90F-A1F60D01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B49-09B5-4997-AE74-870529A6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0C88-6E70-4875-9023-846495D36C0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DDCE-3746-491E-AC3C-3DF6FA64855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Script MT Bold"/>
              </a:rPr>
              <a:t>And now it’s time for…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Notes about the Short 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Architect"/>
              </a:rPr>
              <a:t>Crisi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is is the most exciting part of the story where the main character must finally face the conflict.  The reader can feel that a major decision is com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62120" y="3809520"/>
            <a:ext cx="350496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3680" y="599616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in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3640" y="531036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confli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7600" y="431964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Rising 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81000" y="363384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CRI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38800" y="5715000"/>
            <a:ext cx="5010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chitect"/>
              </a:rPr>
              <a:t>The crisis leads to the…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Architect"/>
              </a:rPr>
              <a:t>Climax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is is the high point of the story.  The climax is when the main character begins to solve her problems and relief is in s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990720" y="3962520"/>
            <a:ext cx="350496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3680" y="546264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in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2240" y="500544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confli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28480" y="431964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Rising 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7640" y="3786120"/>
            <a:ext cx="7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cri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87160" y="355752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CLI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Architect"/>
              </a:rPr>
              <a:t>Falling action / Denoue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At this point, the character is solving the problems created by the confli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990720" y="3962520"/>
            <a:ext cx="350496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680" y="546264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in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2240" y="500544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confli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28480" y="431964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Rising 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67640" y="3786120"/>
            <a:ext cx="7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cri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87160" y="355752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CLI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3962520"/>
            <a:ext cx="281952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99800" y="401472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Denou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chitect"/>
              </a:rPr>
              <a:t>(such a cool wor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Architect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is is where we leave the story….it is the final outcome…good or b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990720" y="3962520"/>
            <a:ext cx="350496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3680" y="5462640"/>
            <a:ext cx="6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in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2240" y="500544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confli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28480" y="431964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Rising 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67640" y="3786120"/>
            <a:ext cx="7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cri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87160" y="355752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CLI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95680" y="3962520"/>
            <a:ext cx="281952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67760" y="401472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Denou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98920" y="531036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Conclu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aintStroke"/>
              </a:rPr>
              <a:t>Coming soon to this screen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intStroke"/>
              </a:rPr>
              <a:t>Ton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intStroke"/>
              </a:rPr>
              <a:t>Charact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intStroke"/>
              </a:rPr>
              <a:t>Point of View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chitect"/>
              </a:rPr>
              <a:t>A Short Story is…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A short story is….a story that is shor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Although it is shorter than a novel, it still contains many of the same important parts a reader would see in a longer piece of wri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chitect"/>
              </a:rPr>
              <a:t>Plo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e plot of a short story is really just the order of events.  A good writer or storyteller will try to arrange her ideas to make a sensible plo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ere are a few major parts to a short story plot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Architect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e introduction is the beginning of the story where the characters are introduced and the setting is explained.  A well-written introduction will also give a hint about the </a:t>
            </a:r>
            <a:r>
              <a:rPr b="0" i="1" lang="en-US" sz="3200" spc="-1" strike="noStrike">
                <a:solidFill>
                  <a:srgbClr val="ffffff"/>
                </a:solidFill>
                <a:latin typeface="Architect"/>
              </a:rPr>
              <a:t>tone</a:t>
            </a: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 of the story (more on that later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Architect"/>
              </a:rPr>
              <a:t>Conflic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e conflict is what creates a story.  Usually it is a struggle or problem that the main character must work to overcome.  Without conflict, there is no sto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ere are 3 major types of conflict we will look a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Architect"/>
              </a:rPr>
              <a:t>Character vs. Charac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e main character struggles against another character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581280" y="3200400"/>
            <a:ext cx="19051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Architect"/>
              </a:rPr>
              <a:t>Character vs. Natu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e main character struggles against the forces of nature (ie.  An encounter w/ a wild animal, or getting lost in a storm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76720" y="3200400"/>
            <a:ext cx="21715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Architect"/>
              </a:rPr>
              <a:t>Character vs. herself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e main character struggles against some type of internal problem like a difficult decision or an illne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743200" y="3048120"/>
            <a:ext cx="363852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Architect"/>
              </a:rPr>
              <a:t>Rising A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chitect"/>
              </a:rPr>
              <a:t>This is where the conflict creates problems for the character to deal with.  As the action rises, the conflict and tension build u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523880" y="3276720"/>
            <a:ext cx="2743200" cy="228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6280" y="5310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840" y="531036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Intro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2040" y="365760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Rising 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48880" y="462456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chitect"/>
              </a:rPr>
              <a:t>Confli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00:13:36Z</dcterms:created>
  <dc:creator>Administrator</dc:creator>
  <dc:description/>
  <dc:language>en-US</dc:language>
  <cp:lastModifiedBy>Administrator</cp:lastModifiedBy>
  <dcterms:modified xsi:type="dcterms:W3CDTF">2006-09-12T15:50:46Z</dcterms:modified>
  <cp:revision>7</cp:revision>
  <dc:subject/>
  <dc:title>And now it’s time for…</dc:title>
</cp:coreProperties>
</file>